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287A7-E952-4CAB-B501-18DB12DE4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03B0B-007B-4512-9E43-096BAFEB1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60FA12F-F772-4110-91E9-AE5B64104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DFC46A7-2968-4872-A0DF-FC8BAEAB7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0EEE270-D99F-41BD-BD77-8C9AEFEC8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42E623A-6402-4078-AF2A-F3F41641C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D9F9B03-2E9D-4C9A-BE6D-DAA2496AB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A185E71-B4EF-43D8-9B54-2749586A0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70F09AF-C0F4-465D-AA93-5410D0650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F990D8D-4E8C-4F6F-9DE4-B4844CF68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F3571A7-90D3-4063-9F02-6E6DA2A55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30A2266-8987-4D31-A3B5-B500243A2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9842E-1C25-431A-93E5-52B948E1C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8A75402-1A82-4D32-805D-E37D28180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CA89D4E-4771-48A0-BB16-1AC397D9E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83C8C42-5EF3-4CC6-A10C-1CE3300DD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A9DCDD6-D373-4215-A39F-836DE5AFB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688F815-B66F-4183-8A3C-E3DB06924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96911EB-7E14-4A9D-83E1-428E867A2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2DE7B87-31C7-4D17-80BD-3899BC4A7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C00DF94-593A-4DB5-A53A-5C29C1DF6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E434EC3-1A0E-4855-AD57-D21DC12AB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38AE091-00A1-4317-A53F-85713BC43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B7C27-96EA-437F-98C3-63554560E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B90E4FE-BCD1-4139-9C87-1A17212F1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84431C-8760-4E8C-A458-F30CA2753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CDCFC7-8461-4333-9F0B-860550CA4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9E4E69-2626-4524-A124-88D4D560C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C29F84-94B8-49CC-9A66-A773520AF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5EF9B0-0DAA-4D84-A9DC-C0AFEE4DA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73679A-3B02-481B-BB30-A068F5F23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BBDA34-C8F5-47B3-9750-17A84C240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B86218-77B6-4203-9D8E-020653795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8C671E-AA07-4228-AE0D-8C0862DD6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CB26C-E6EF-4142-8F6E-789E14293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09D52E-4B69-47AC-8802-3F92ECBB0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44196B-E0CB-487D-9979-B60EE3C5E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BC09C1-3AF0-45EE-94BE-9DAC78CC7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B33F097-8C5E-449E-96E6-6D973B89D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E9C196C-1812-46D0-B592-47CDD1C05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6508953-EFDF-4BAB-BA9D-06E10CA15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9643540-9412-4C6C-8FD1-A8733035A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54E63F8-D501-481B-AFFC-3F505038C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70B82EC-3E81-4DE5-8ED2-7D5ABEE8B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315E5DE-DCF0-4BC1-BEAF-9A665C97F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44A23-AEF6-40E2-99EA-5CAD2E1A3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31189B3-D3EB-402B-92E5-13EA701B5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F3673FE-F229-4A20-B0B9-B53B6E127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DF95D46-836A-4802-84FE-20C357AEF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3BEE004-52FA-4E97-A414-87D0B46EB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68E1153-AE3B-4771-AE8F-5586AD17B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C13EB-D8C8-4F65-AF84-6798AEFC5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9E3F7-BBEF-406E-BE44-A5CF168A5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BAD6C-596E-463D-BE83-D1756F85A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F8D45-A490-4600-B4CB-36A22F3AF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2EFEA-0AE3-4DC3-84FF-5A9863582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C550C-F4D8-4AC2-B0E9-4913BB2AA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CAAE6-C0CC-45D2-BDAC-1C1F71945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D6804-4E3F-4604-B1AE-8F69FD4B7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065A3-1B16-4258-BAB0-A3EC9E398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688FF-76DB-4BCA-BE9D-1CC303B7E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ED2B3-B86A-4354-A73E-948F797D6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9E9E8F-331F-4AC3-8695-BA2CFC641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1C8790-B2A3-4DDF-8045-E5AA779CD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394318-736D-4485-9FF7-F7C77488A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ACFC6C-564F-4241-BBCB-C536DF5DF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8B80C9-1D0A-4B89-9C3F-FC8663495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2AB9E-F8E1-4D9F-9220-F0CBC8684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76D272-88A1-4834-82DC-9D0B916AA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9016E0-148A-40CE-A4C1-C28869C48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EDB4DD-341C-491E-8FCB-8644DF59E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EDB86A-AF32-42EA-91F2-32D9FA1CE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44B8E2-6537-41D5-86A3-D3326B1CB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F35976-ACD8-4259-84C8-937FCA4F2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BFD634-3AD5-44EB-A84D-0AF3637A1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B3AFA4-C4A7-448A-9A84-DEB8A2391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47D1DF-2D33-4DB0-893D-3D3E5C2B3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E247F9-11BC-4BBD-80D1-609792D1B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543ED-D18E-40F6-B2DF-5A0F9C089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EEBF71-D11F-43D5-9A4C-91A75967B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96E1CB-5858-4324-BA6D-201C4E83D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E3ED91-D49C-475B-8CE3-50E6047DB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81F8E6-8961-44FD-ADE4-7CC7B95A5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D4A421-5A33-4F8A-A99D-093112AB8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11B664-343C-4460-803C-C7C9CF3A5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459003-D9C6-4DD8-B104-9FFA1439A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00BB2F-B1FB-4B3B-A62F-0D726AE97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8F312A-D6B4-4FE2-B197-5A783A97C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6A12F5-1F23-4154-AFC0-29D44FD8F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A938D-E1EF-4657-95A3-8302285B9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C202CF-D867-42D0-8A64-8B752DCCD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495B27-1E8D-4C1A-9B8F-4715D62C4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F169A5-F1B4-4EDC-812C-D0AFF9D57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BE05DD-ED87-46C8-92E8-B3037A58F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6ECAFD-4432-4379-B593-C02EC705D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25E4EA-14E8-4AA5-8D98-6146E9F29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5E0043-92AE-4E35-B340-17E0396A2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9AD137-AA7F-43EA-AA29-D23270DD2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FBB233-E73E-49A1-8385-AA5C785B3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589EBB-83B2-4300-9276-AAB522581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93E66-A91C-4F15-AED2-872EC64E2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5CC282-46D6-478D-A19C-EFE8D1E19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AD29C1-8D15-4CAB-8B72-F0DE886BE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3DC73E-206B-401F-8ABA-6A09080EA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78C0EE-43C4-40A8-BBAF-86006E54B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6BC3FB-E8E4-4BCD-9C17-0DB558353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CC6085-7D13-4FAF-9F13-99D422C20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F83594-FF26-4B97-9EDF-E1CF0A8CC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695BA3-5F90-496D-8168-0E5407413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62E871-351B-44CF-9A1E-68CC2CD7F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0D611C-F227-473E-9B85-F3952316E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94A59-9B6C-428B-9524-2D41AF566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4FD658-EF1A-4A66-A1A2-5CFC3ACEA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97F23D-13BB-4220-861A-1F3A2FB09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C3FF88-826E-42A7-BBCD-E02AA0191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2FA273-15E8-412B-8792-B8D6F8917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CAE9A3-3B07-4BAB-9869-823607E41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6335E6-8C47-4E8A-AFD5-61B9ACD1C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D4A0F5-922F-4164-9063-E5FCC3FC2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EB020F-C88A-4591-BCBB-3FC465C89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9DAC17-AE88-41F5-956E-6730B8CEC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24E854-A0BC-4200-B08E-D48FA6BA9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BDA4B-3707-4057-8A87-38AC063FA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02B9C6-E4D6-490F-8E64-0FC5842FD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513E49-B37C-4C91-83F7-9319314DC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A805E5-61CF-4B0F-846E-391F2C981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8CB79F-B161-4A16-B3FB-3D06A142D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AB2D48-B0A3-4624-994E-3D5E82C5A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B8CB09-92D0-4828-AA7E-64AAEB3DE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243357-8B00-4B53-BAFD-BF9580ABC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E8DD69-83FF-428D-BFDB-F6AC743BB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D7A1E1-1C96-45F6-9076-2158CA439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1411F4-E674-4EAD-A105-CB37FAB8A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D88F6-EE63-41F0-B53D-0DB928322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73AF57-86DA-4BAC-B8F1-F0DB82B6A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D2BBA8-77A8-49A4-B920-164FB121C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F1D0B6-EAC7-4470-892B-6B5397A27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0D066E-C9D6-4740-BDFD-EFC927CAC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EA6113-4FC9-4FB5-9E93-C0DEB4E8A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4EC904-B6F9-490D-8D44-0F0B80DB1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B1C66F-3FBF-484A-AB35-30B712E0A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FDA38C0-BEBE-419D-A555-265FB0654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350F0DB-F1EF-4230-ABA1-EBAEF7407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81C7766-9B71-4F89-A6B3-B46BE9243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E6D12-BE5E-4C62-A7D7-6576981AB1CD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Прямая соединительная линия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Прямоугольник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Прямоугольник 25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Прямоугольник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Прямоугольник 2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Овал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Овал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Прямоугольник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D2109-C513-4FA2-92A7-1974C8123B99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1FB1F-08E5-4882-BE46-90333EFA776F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Прямоугольник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Прямоугольник 21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Прямоугольник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Прямоугольник 25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Прямая соединительная линия 26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Овал 27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Овал 28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5E42F-9DD9-44A4-86A7-48CC7C382B89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21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23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5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Овал 27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8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9A0EE-0CE3-4187-928E-AD5F7C12412D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6A5CF-4D5B-4C2C-9FF6-CF4E221E0B4B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21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23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24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оугольник 25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оугольник 26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оугольник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8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Овал 29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Овал 30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E677D-EB7B-4F9A-9CAD-E9ABF38D7F17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ая соединительная линия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BD6E8-7D43-4AC9-A5E6-28C032BFE159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Прямая соединительная линия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Прямоугольник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Прямоугольник 21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оугольник 24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оугольник 25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26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27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Прямоугольник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Овал 29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Овал 30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038D3-FF72-472D-A477-0B6893E9AC70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ECAA4-467F-42DA-B3C0-1A52BEF72B8E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Прямоугольник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Прямоугольник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Прямоугольник 25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ADED9-178B-4AF7-85D3-E4D8BC7ECDF5}" type="slidenum">
              <a:rPr b="0" lang="ru-RU" sz="16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Прямоугольник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Прямоугольник 23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Прямоугольник 25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Прямоугольник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Прямая соединительная линия 27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Овал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Овал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Прямоугольник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375F3-1F9B-42E9-B3CC-50720AD7793F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3779640" y="4941720"/>
            <a:ext cx="4578120" cy="69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Georgia"/>
              </a:rPr>
              <a:t>НЕЧИТАЙЛО И.Н., ПРОНЕР М.А. УЧИТЕЛЯ НАЧАЛЬНЫХ КЛАССОВ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title"/>
          </p:nvPr>
        </p:nvSpPr>
        <p:spPr>
          <a:xfrm>
            <a:off x="1402920" y="2205000"/>
            <a:ext cx="7054920" cy="172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2060"/>
                </a:solidFill>
                <a:latin typeface="Georgia"/>
              </a:rPr>
              <a:t>Распродажи, скидки. </a:t>
            </a:r>
            <a:br>
              <a:rPr sz="4200"/>
            </a:br>
            <a:r>
              <a:rPr b="1" lang="ru-RU" sz="4200" spc="-1" strike="noStrike">
                <a:solidFill>
                  <a:srgbClr val="002060"/>
                </a:solidFill>
                <a:latin typeface="Georgia"/>
              </a:rPr>
              <a:t>Решение задач.</a:t>
            </a:r>
            <a:endParaRPr b="0" lang="en-US" sz="42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08" name="Рисунок 4" descr="скидки.jpg"/>
          <p:cNvPicPr/>
          <p:nvPr/>
        </p:nvPicPr>
        <p:blipFill>
          <a:blip r:embed="rId1"/>
          <a:stretch/>
        </p:blipFill>
        <p:spPr>
          <a:xfrm>
            <a:off x="539640" y="476280"/>
            <a:ext cx="3095640" cy="17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9" name=""/>
          <p:cNvGraphicFramePr/>
          <p:nvPr/>
        </p:nvGraphicFramePr>
        <p:xfrm>
          <a:off x="395280" y="549360"/>
          <a:ext cx="8353440" cy="5472000"/>
        </p:xfrm>
        <a:graphic>
          <a:graphicData uri="http://schemas.openxmlformats.org/drawingml/2006/table">
            <a:tbl>
              <a:tblPr/>
              <a:tblGrid>
                <a:gridCol w="1670040"/>
                <a:gridCol w="1671480"/>
                <a:gridCol w="1670400"/>
                <a:gridCol w="1670040"/>
                <a:gridCol w="1671480"/>
              </a:tblGrid>
              <a:tr h="109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cada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Магазин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cada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Магазин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cada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Магазин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cada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Магазин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cadae"/>
                    </a:solidFill>
                  </a:tcPr>
                </a:tc>
              </a:tr>
              <a:tr h="109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Обычная це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2 390 руб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3 000 руб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5 000 руб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4 500 руб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3e3"/>
                    </a:solidFill>
                  </a:tcPr>
                </a:tc>
              </a:tr>
              <a:tr h="109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Скидка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Без скид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       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5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       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5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        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0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f2"/>
                    </a:solidFill>
                  </a:tcPr>
                </a:tc>
              </a:tr>
              <a:tr h="109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Скидка в руб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3e3"/>
                    </a:solidFill>
                  </a:tcPr>
                </a:tc>
              </a:tr>
              <a:tr h="109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Конечная це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2-19T12:14:11Z</dcterms:created>
  <dc:creator>Дом</dc:creator>
  <dc:description/>
  <dc:language>en-US</dc:language>
  <cp:lastModifiedBy>User</cp:lastModifiedBy>
  <dcterms:modified xsi:type="dcterms:W3CDTF">2023-02-21T12:12:38Z</dcterms:modified>
  <cp:revision>19</cp:revision>
  <dc:subject/>
  <dc:title>Распродажи, скидки.  Решение задач.</dc:title>
</cp:coreProperties>
</file>